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5250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530-4085-4B4E-A5E6-2FCE7516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80964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4359240"/>
            <a:ext cx="80964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D48-6C32-428D-B838-43E45499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1D2-50C8-4C13-BF9C-EDECAE32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1680" y="209052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9120" y="209052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435924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1680" y="435924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9120" y="435924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4C3-8208-4330-9FA6-DA207AEF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2090520"/>
            <a:ext cx="809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E3D-BEAC-4AF4-BF70-2702DFC1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809640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15B-64DD-45AC-B7EC-C0313DD3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CE1-92A5-4025-8B82-3984FE1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901-07A8-4FAD-978D-791BBBD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642600"/>
            <a:ext cx="8096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F0F-4EDC-4E01-8AB5-5ED0A417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33C-7F70-4202-B9FA-785AF452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C2A-BA4A-4A85-942C-4FB9B4B5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4359240"/>
            <a:ext cx="80964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23A-7F04-4AF9-AE57-14D180F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090520"/>
            <a:ext cx="809640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5320" indent="-3553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52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760" indent="-237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9600" indent="-2372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4080" indent="-23688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34080" indent="-23688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34080" indent="-23688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6595560"/>
            <a:ext cx="198468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6595560"/>
            <a:ext cx="301608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6595560"/>
            <a:ext cx="198432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F551159-79B5-45F5-A75C-F57DF83F152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096400" cy="1046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AŁACZNIK NR 1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YKAZ ZAKŁADÓW I KOMÓREK ORGANIZACYJNY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20640" y="914400"/>
          <a:ext cx="82836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914400"/>
                    <a:ext cx="8283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10:03:50Z</dcterms:created>
  <dc:creator>*</dc:creator>
  <dc:description/>
  <dc:language>en-US</dc:language>
  <cp:lastModifiedBy>ZOZ Płock</cp:lastModifiedBy>
  <cp:lastPrinted>2006-01-05T10:29:20Z</cp:lastPrinted>
  <dcterms:modified xsi:type="dcterms:W3CDTF">2006-01-30T10:39:33Z</dcterms:modified>
  <cp:revision>28</cp:revision>
  <dc:subject/>
  <dc:title>ZAŁACZNIK NR 1 DO REGULAMINU ORGANIZACYJNEGO SZPZOZ WYKAZ ZAKŁADÓW I KOMÓREK ORGANIZACYJNYCH </dc:title>
</cp:coreProperties>
</file>