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443-DAEC-4237-B387-49E68CAF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2C-B336-4FF4-BF53-7853A5B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1EB-968E-4763-80C8-26A49E1D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6EF-5888-4FBF-9188-61754C41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A8E-90F1-46EC-A14F-269EF979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41E-788D-451F-A0C6-43738E6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7F3-FA6B-4FCB-8C25-622D042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8DE-57B8-40E3-BF3C-FE79833B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080-A868-49D7-93A1-F058D59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286-5369-4D61-83FB-64B9C7B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FCE-2E7C-45E9-A58E-5AF0A1C1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7D1-BF64-4C3A-A23F-BD211F4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263-5A95-4263-BBD6-6F191E45B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AŁĄCZNIK NR 2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YKAZ KOMÓREK O CHARAKTERZE NIEMEDYCZNY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7280" y="1547640"/>
          <a:ext cx="5743440" cy="639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547640"/>
                    <a:ext cx="574344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0:00:04Z</dcterms:created>
  <dc:creator>Marek Kuczmarski</dc:creator>
  <dc:description/>
  <dc:language>en-US</dc:language>
  <cp:lastModifiedBy>ZOZ Płock</cp:lastModifiedBy>
  <cp:lastPrinted>2003-08-26T05:53:32Z</cp:lastPrinted>
  <dcterms:modified xsi:type="dcterms:W3CDTF">2006-01-31T11:47:19Z</dcterms:modified>
  <cp:revision>11</cp:revision>
  <dc:subject/>
  <dc:title>ZAŁĄCZNIK NR 2 DO REGULAMINU ORGANIZACYJNEGO SZPZOZ WYKAZ KOMÓREK O CHARAKTERZE NIEMEDYCZNYM</dc:title>
</cp:coreProperties>
</file>